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F700-3389-4489-AC07-4238005C6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0488-BF36-4415-B8BE-D6F75693A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DCAA-43B1-47EB-A9FB-AE5FCC3225F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7C0B-7B70-4226-B55A-449C303CFF6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CD48-29A5-4A69-9082-3900A17CAB3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58F0-C44C-476B-88C3-A13E78A0BD7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4CBD-E326-4179-B315-4894A1670F5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2411-DAF7-4492-AE1B-178699046A4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EF55-EDAB-4727-8485-0BCDCA44F74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4876-50E0-4DDF-86BB-E386008DC41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EFFB-EC6D-493E-9592-D62E8DE49A8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491A-A637-4F45-B831-11092D6B23C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C99A-9250-4896-9E09-E182B5CDF91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95B4-377C-4EF8-933A-875A7752912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16DE-C784-46F2-A8D3-A8D6161CE98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34AB-93E2-44A1-BD26-FC3BDCF1F5E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D249-907F-4748-AFD9-EC9013A7EC6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392D-C4EA-4D5D-B953-C43DCD10B64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2885-7786-4371-9349-1D06D0DF689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3362-5BB8-41E3-8A7D-B3A319678F4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5ACD-78DB-49FF-B546-FECC764C98E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F492-68DC-4608-8829-19B818DB9E9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A619-981E-4EAE-B139-98143E89DEB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57EB-6411-4584-9E57-4CAC0D90E37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A12E-3DC3-47DB-8587-C9B3E898820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7085-9809-4CA4-B916-29B12A7E98F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8718-5B1B-4462-9F7B-E314811C32B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2855-0025-4B52-B95C-77629E778F2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A147-3D92-4A92-80CE-9E6E954D59E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1E1F-AF4A-455B-86B6-3CC1D15A8C7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F4C7-E3FE-4A0B-A6B3-F6984C2DE5F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2D69-74AA-41A0-97B8-1C1BAB55065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9BD7-1375-433C-BD34-03FA8F83135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3EAC-176D-4B81-88D8-F290EB3F6AC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6A83-B681-4035-B695-9F4B24E7668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D2E3-6501-458B-9845-E0E2A47E44A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CC28-4A24-4DF7-9C0F-4D95685CEFE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C1E7-5EC2-498C-BFB8-002D2861630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18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РМАКОЛОГ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ОВИ ПРОТИВ ХЕЛМИНТ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ОВИ ПРОТИВ ПРОТОЗОА И ЕКТОПАРАЗИ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ф. др Драган Р. Миловано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АНТИМАЛАРИЦ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а I - асексуалне еритроцитне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лорокин, мефлокин, хинин, хинид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nsida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пириметамин плус сулфадокс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трацикл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а II - асексуалне еритроцитарне и примарне хепатичне форме (хипнозои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aron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Атоваквон плус прогвани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а III - примарне и латентне хепатичне форме (хипнозоити) плус гаметоци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а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Arial"/>
              </a:rPr>
              <a:t>ХИНОЛИНИ И ДЕРИВА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Аминохинол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хлорокин, хидроксихлорокин, амодиаки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Метанолхиноли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алкалоиди из биљке цинхона: хинин, д-хинидин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мефлоки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-Аминохинол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римаки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рив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халофантрин и др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ХЛОРОКИН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тималарично деј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мета секвестрацију хема (ферипротопорфирин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), оштећење мембране и макромолек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чење напад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офилакса, маларија у трудноћ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тинфламаторно дејство: РА, С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мебицидно дејство: амебни апсце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обоља, дигестивне тегобе, сметње вида, свра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тинопатија, ототоксичност, миопатија, аритмије, менталне промене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утна токсичност, мала терапијска ширина (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рдиоваскуларни и централни симпто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Arial"/>
              </a:rPr>
              <a:t>ХИНИН И МЕФЛОКИ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зоделујући шизонтоциди, делом гаметоц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нин из Јужне Америке у Европу 163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ови избора за профилаксу и л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ечење резистентних обл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. falciparum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et viv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регије са високим ризик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нхониза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инитус, ослабљен слух, главобоља, визуелне сметње, мука, дијареј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лок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 триго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централни ефек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ПРИМАКИ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вни шизонтоцид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хипнозои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радикација (лечење) P. vivax и ov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eumocystis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jirovec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са клиндамицином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и фолинат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ро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носи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тхемоглобинемија, дигестивне тего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емолиза: особе са наследним дефицитом Г6П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ОСТАЛИ АНТИМАЛАРИЦ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тифол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Диаминопиримидини: пириметамин (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редуктаза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Сулфонамид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и сулфони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дихидроптеорат синтетаза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сулфадоксин, дапсон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Бигваниди: прогванил (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редуктаза-тимидилат синтетаза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Пириметамин </a:t>
            </a: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сулфадоксин (FansidarR</a:t>
            </a: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Дапсон + хлорпрогвани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хибитори респиратоног лан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Атоваквон (цитохром бц1)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лус прогванил (Malarone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ОСТАЛИ АНТИМАЛАРИЦИ</a:t>
            </a:r>
            <a:r>
              <a:rPr b="1" lang="sr-CS" sz="3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лкилирајући аген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сквитерпенски лакто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и ендоперокс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тремизинин, артемет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ер, артесу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ије описана клинички значајна резистен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енантренметаноли: халофантрин, лумефантри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сл. хинолини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теме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лумефантрин (C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e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iame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тибиотици: доксицикли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ндамиц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Лумeфaнтр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Лумeфaнтрин je aрил-aлкoхoлни дeривaт хaлoфaнтрин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фикснoj кoмбинaциjи сa aртeмeтeрoмкoристи зa лeчeњe мaлaриje изaзвaнe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Plasmodium falciparu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o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личнo je eфикaсa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глeдa дa имa слaбиjу кaрдиoтoксичнoст oд хaлoфaнтрин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упљи oд вeћинe других aлтeрнaтивa штo му oгрaничaвa ширу примe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Arial"/>
              </a:rPr>
              <a:t>РЕЗИСТЕНЦИЈА ПЛАЗМОДИЈУМ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Xлорокин-резистентни сојеви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t, Pfmdr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е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. фалципарум, свуда ос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Кариби и Централна Америка (сем Панаме), Аргентина и Парагвај, северна Африка, делови Блиског и Средњег Истока, Кореј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. вивакс, значајно 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Папуа Нова Гвинеја и Индонезиј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туелни подаци: СЗО, ЦД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ТЕРАПИЈА НАПАД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зистентн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. falciparum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 et viv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темисинин комбинована терапија (А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тесунат/амодиакин, артеметер/лумефантрин, дихидроартемисинин/пипераквин, артесунат/мефло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инин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/хинидин, плу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ксициклин, клиндамицин, п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риметамин/сулфадокс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флокин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атоваквон/прогван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lasmodium vivax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сензитивни) 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v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лорокин потом прима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lasmodium malari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лоро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ПАРАЗИТИ И ЛЕКОВ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ОЗОЕ - једноћелијске животињ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амебициди и антималариц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ЕЛИМИНТИ - цр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антихелминтиц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РТРОПОДЕ - ектопараз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инсектициди и репелент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ПРОФИЛАКСА МАЛАРИЈ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штитне м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бегавати комарце у сумрак и зо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сити одећу која покрива откривне делове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ристити репеленте (ДЕЕТ) и постељину натопљену инсектицидима (пиретроид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штитна мрежа за спав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емиопрофилакса (леков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изонтоцидне концентрације лека у време инфекције плазмодију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дељу пре путовања (нежељена дејства лека), за време боравка и 4 недеље после дола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ХЕМИОПРОФИЛАКС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гије сензитивних сојев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хлорокин (недељн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гије резистентних соје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тов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/прогванил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мефлокин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ксициклин, прима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спектна маларија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тов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/прогван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ларија у трудноћ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рапија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орокин или хин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филакса: хлорокин са прогванилом и фолном кисли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ЛЕЈШМАНИОЗ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сте и подврсте род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Leishman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преносе му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рацелуларно, грануломи: висцерални органи, кожа и слузн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сцерална лајшманиоза с. КалаАз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. donova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Индија/Африка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. infant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Медитеран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. chaga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Нови Свет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жна (кутана) лајшманиоза (спонтано зацељењ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. tropica, L. мајо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Стари Свет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. mexicana, Л. мајо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Нови Св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ко-кутана лајшманиоза (Нови Св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. brasiliensis, L. panamen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ЛЕЈШМАНИОЗЕ - ТЕРАПИЈ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енерално, постојећи лекови нису ни довољно безбедни ни ефика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дињења антимо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глумин антимонат и На-стибоглуко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нтамидин изетионат (метанесулфона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а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мфотерицин, паромомицин (аминосидин), интерферони, алопуринол, милтефос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ТРИПАНОЗОМИЈАЗ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фричка спаваћа болест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мува Це-Ц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ypanosoma brucei gambiense Duton</a:t>
            </a:r>
            <a:r>
              <a:rPr b="0" i="1" lang="sr-CS" sz="1800" spc="-1" strike="noStrike">
                <a:solidFill>
                  <a:srgbClr val="000000"/>
                </a:solidFill>
                <a:latin typeface="Arial"/>
              </a:rPr>
              <a:t> е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hodesi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сен: меларсопрол и трипарсами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ариш-Херксхајмерова реак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рамин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(протеинуриј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нтамидин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еукопениј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флорнитин, дифлуорометилорнитин (арсен-резистентни сојев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утна америчка трипанозомијаза (Ј. Амер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ypanosoma cruzi Chag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агасова болест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фуртимокс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или 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нзидаз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сични, 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ех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задовољавајући (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oкaлнa тeрaпиja лејшманиоз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oлeсници с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утaнoм лejшмaниjaзo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aли ризик зa дисeминaциjу бoлe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лaгим oбликoм (мaњe oд 4 лeзиje, нe вeћe oд 5 ц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Један од следеће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њeкциja нaтриjум стибoглукoнaтa у лeзиje (20 мг/кг нeдeљнo, 8-10 нeдeљa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aрoмoмицин у виду мaсти (двa путa днeвнo, 20 дaн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иoтeрaпиja тeчним aзoтoм (дo 3 aпликaци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4"/>
          <p:cNvGraphicFramePr/>
          <p:nvPr/>
        </p:nvGraphicFramePr>
        <p:xfrm>
          <a:off x="1028880" y="1714680"/>
          <a:ext cx="7111800" cy="496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1714680"/>
                    <a:ext cx="7111800" cy="49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Друге протозо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ХЕЛИМИНТИ – црв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матоде (ваљкасти црв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цревне: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Ascaris, Enterobius, Trichuris, Necator, Ankylostoma, Toxocara, Strongyloides, Trichinell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филаријазе: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Onchocerca, Wurchereria, Brugia, Lo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матоде (метиљ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рави метиљи: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asciola, Paragonim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шистозоме: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Shistozom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стоде (пантљичар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цревне: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Taenia, Diphylobothrium, Hymenolep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цистични, ткивни облици: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Echinococc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Arial"/>
              </a:rPr>
              <a:t>Нематод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раве у цревима (геохелмин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носе се фекално-оралним пу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caris lumbricoides, Enterobius vermicularis, Trichuris trichi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рве улазе кроз кожу, преносе се и фекално-орал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cator americanus, Ankylostoma dode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рве улазе кроз кожу, бурн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зна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кутана ларва мигра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ongyloides stercoralis, Ancylostoma brasilien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рве захватају орг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xocara canis -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сцерална/окуларна ларва мигран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ichinella spiralis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рихинел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кално-орална инфестација, ларве излазе кроз кож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racunculus medinen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Arial"/>
              </a:rPr>
              <a:t>БЕНЗИМИДАЗОЛ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штећење микротубула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були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руга дејства: инхибиција транспорта глук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бендазо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ltri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 је избора за већину немат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бендазол (Bimena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ебно ларварни облици 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те пантиљич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Веома безбедни, опрез труднице и мала деца (1-2 г</a:t>
            </a:r>
            <a:r>
              <a:rPr b="1" lang="sr-CS" sz="18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абендаз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тиснут, знатно 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сичнији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НС, хепатотоксичнос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ПРОТОЗОЕ - једноћелијске животињ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мебе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tamoeba histoly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уге протозое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lantidium, Giardia, Isospora, Toxoplasma, Trichom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арија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asmo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јшманијаза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ish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ипанозомијаза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ypanos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ОСТАЛ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рантел памо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аришућ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уромишићн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антел памо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ог пирантела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пек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пераз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азива млитаву парали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ри лекови, ретко се кори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ки алтернатива нитроимидазолима за децу и трудн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Филариј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опска обо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раве у екстраинтестинално (лимфатици, ок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ларије и микрофиларије (ларв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носе их муве и комар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мфатична (елефантија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urchereria bancrofti, Brugia malay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и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a l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чно слепило (онкоцерција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chocerca volv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Лекови и филариј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вермект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Активира хлорне канале регулисане глутаматом и ГАБА-ом, парализа паразир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Филаријазе, нематоде (кутана ларва мигранс) и ектопаразит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етилкарбамаз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Оштећује органеле и макромолекул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лакшава дејство имуних механизам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цотијева реакциј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алергијска с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ензибилизације на протеине мртвих паразит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Arial"/>
              </a:rPr>
              <a:t>Метиљи и пантљичар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ематоде (метиљ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тра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ciola hepatica, Opisthorchis spp., Clonorchis sinensi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рево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ciolopsis bu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ућа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aragonimus westerm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илхарз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histozoma haematubium, japonicum  et mans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стоде (пантљичар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ревне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enia solium еt saginata, Diphyllobothrium latum, Hymenolepis nana et diminuta, Dipylidium cani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истични, ткивни облици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Cysticercosis (T. solium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Echinococcus granulosus et multlocul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екови, метиљи и пантљича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зиквант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лук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+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ција, парализа, тегумент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тиљ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им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асциола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нтљичар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(осим цистичне форм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самникин, артеме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рифонат- органофосфатни инсектиц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тинол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и триклабендазо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елики мети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клозам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хиби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сидативну фосфорилацију и преузимање глуко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нтљичаре (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 убија јајашца и цис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Педикулоз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diculus hunamus corporis - т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не захтева примену лекова већ дезинсекцију одела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физичка средства (српско буре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инсектициди: малатион, ДД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diculus humanus capitis (гла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аја одстрањивати густим цешљем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tirius pubis пубис (стидни преде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лечити партнера код стидних вашиј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пија: 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стектиц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Перметри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тетски пиретроид (&gt;2,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иретрум - сирови екстракт биљк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rysanthemum cincerari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иретрин - пречишћен екстракт, мешавина три ест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иретрин 1/2, цинерин 1/2, и јасмолин 1/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уротоксичан, блокира N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анале, пар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ксичност за људе је релативно слаба, мање од 2% се ресорбује, тровања-ЦНС стимулациј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пликовати 10 мин, испрати, ишчешљати и поновити за 7-10 д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руги педикулоц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ндан - хексахлороциклохексан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амабензенхексахлорид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органохлорни инсектицид, ефикасан скабицид и педикулоци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око 10% се ресорбује и акумулира у масном ткив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не примењивати у трудноћи, конвулзивни (неуротоксични) потенција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атион -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хибитор холинестер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инос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пинoсa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дикулoцид изoлoвaн из прoдукaтa фeрмeнтaциj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ccharopolyspora spinos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шaвин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инoзинa A и Д у oднoсу 5: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aзивa нeурaлну eксцитaциjу инсeктa, пoслeдичну пaрaлизу и eлиминaциj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армацеутски облик и индик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9% суспeнзиj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зa лeчeњe вaшљивoсти глaв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потре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днoм aпликoвaн, oдстojи 10 минутa пa сe испeрe и пo пoтрeби пoнoви зa 7-10 дaн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пре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aдржи бeнзил aлкoхoл пa сe нe прeпoручуje кoд oдojчaди млaдje oд 6 мeсe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Шуга - 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rcoptes scabie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ликовати лек на целу кожу сем лица (очиј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 деце, старих и имунокомпромитованих и ко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авити 8-10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4 ч.), поновити за 7 д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чити све укућане, чистоћа одела и постељине (пеглањ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Амебијаза - 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Etamoeba histolyti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ликовати непатогене амебе/протоз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симптомат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инвазива, доминирају цистични обли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мптоматска (инвазивна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стинал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мебни (недизентерични) колитис (дијареј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мебна дизентер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мебома црева (може да наликује тумор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мебни апендицит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кстраинтестинал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јетра, плућа, мозак, слезина и други орг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Скабицид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мет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н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вермек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мп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ри скабицид, не иритира, непријатан мирис и бо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ви избор у трудноћи и одојч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ципитирани сумпор, 5% у петролеу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тами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нзил бензо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АМЕБИЦИД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уминални амебиц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дилоксанид-фуроа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јодокинол и др. (потиснути због токсичности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антибиотици: паромомицин, тетрациклини, еритромици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кивни амебиц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нитроимидазоли: метронидазол, тинидазол, орнидазо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лују и на луминалне али је брза ресорп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дихидро)еметин, хлорокин - ефикасни али токсичн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МЕТРОНИДАЗО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дукује се у паразиту (фередоксини, PFOR)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тро-радикал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штећење макромолеку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вазивна амебиј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ге протозе: трихомонијаза, ђардиј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ероби и микроареофили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cteroides, Clostridium, Helicobacter, Campylob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гестив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тегобе, стоматитис, метални укус неуротоксичност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жне ре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са алкохолом (!), дисулфирам-лај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ЛЕЧЕЊЕ АМЕБИЈАЗ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цоноше-асимптоматс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уминални амебицид, 7-20 д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стинал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ронидазол, п.о., 5-10 дана, по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уминални амебиц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кстраинтестинал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ронидазол, и.в., 10 дана, по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уминални амебицид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потреби аспирација садржа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АЛАРИJ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odium viv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бенигна маларија терцијан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odium ov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р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е, слично као вивакс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odium malari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маларија квартана (средње тешка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odium falcipa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маларија терцијана/субтерцијана (малигна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ДЕЈСТВО АНТИМАЛАРИ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 један лек не убија спорозо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је могуће спречити инфекцију, али је могуће спречити развој симптома маларије који су узроковани асексуалним форм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 један лек није ефикасан против свих облика (хепатичних и еритроцитарних) који могу егзистирати код истог пацијен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летно излечење захтева примену комбинације ле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</cp:lastModifiedBy>
  <dcterms:modified xsi:type="dcterms:W3CDTF">2017-09-14T22:01:12Z</dcterms:modified>
  <cp:revision>19</cp:revision>
  <dc:subject/>
  <dc:title>Slide 1</dc:title>
</cp:coreProperties>
</file>